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0CF-2A76-4C0C-88C0-28A26B6E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5C0-E9A0-4016-9B46-11C860D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0A0-0A2F-439B-8C23-BE713642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153-B51A-4565-B2D3-6FC14CDD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FDD-FD07-4926-9102-9C95F25B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6BF-6378-42D4-B157-6754757D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619-127A-411C-B946-6F06803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187-1E41-4138-A67D-155AB890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FEE-91AF-484F-9C9B-9CF6E7F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82F-D502-4AC1-998D-73D6CE4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913-B0D5-40F6-9F18-2D709B2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C9E-834B-407B-ADA2-EE10E060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6DC6-38BC-46BB-84C5-ECE55158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6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يهـا الأحبـّه، أيها الأحبه ، أسلكوا في المحبّـ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يحـبَّ بعضُنا بعضاً،    فـإنَّ ألله محبّــــ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124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7467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16002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ذاً أحبَّ بعضُنا بعضاً أقام ألله فينا وتمّتْ محبتُه فينـا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1828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ـــــذا يُقيـــــمُ ألله فينــا ونقيــمُ في ألل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1760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12:13Z</dcterms:created>
  <dc:creator>SUZANNE.MD</dc:creator>
  <dc:description/>
  <dc:language>en-US</dc:language>
  <cp:lastModifiedBy>HANI SAFI</cp:lastModifiedBy>
  <dcterms:modified xsi:type="dcterms:W3CDTF">2003-05-22T04:51:52Z</dcterms:modified>
  <cp:revision>2</cp:revision>
  <dc:subject/>
  <dc:title>PowerPoint Presentation</dc:title>
</cp:coreProperties>
</file>